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3A0F-1608-4847-BD8F-012488562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3146-3FCE-40D1-BF14-FDD59438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6271-2F74-4C1A-A10C-BCC73DEE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35DF-8783-4834-AEEC-28646DCC8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49DB-634E-4905-9589-ACC86F8E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3AA5-5C5A-4BC7-B354-71B71BF5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7D74-5F27-489D-A2D6-9DE93DA7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4AB8-F762-49D5-98F0-6E771563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5F1C-B849-40DC-A8C7-E0FBD889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5AB0-C4BC-4C3F-9D0C-12C8C82C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8F79-68E1-4A1A-9E7A-07BBD898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8A65-3E27-424D-B544-D8E8DC77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3A3F-B9DA-40F2-A5B7-BB5A1509EA01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3" descr="euskladi_template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2" name="Slika 3" descr="euskladi_template1.bmp"/>
          <p:cNvPicPr/>
          <p:nvPr/>
        </p:nvPicPr>
        <p:blipFill>
          <a:blip r:embed="rId3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4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642960" y="2552760"/>
            <a:ext cx="7705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34ea2"/>
                </a:solidFill>
                <a:latin typeface="Arial"/>
              </a:rPr>
              <a:t>OPERATIVNI PROGRAM KREPITVE REGIONALNIH RAZVOJNIH POTENCIALOV ZA OBDOB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34ea2"/>
                </a:solidFill>
                <a:latin typeface="Arial"/>
              </a:rPr>
              <a:t>2007-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000240" y="5316480"/>
            <a:ext cx="280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Gregor Pir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21.5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ravokotnik 1"/>
          <p:cNvSpPr/>
          <p:nvPr/>
        </p:nvSpPr>
        <p:spPr>
          <a:xfrm>
            <a:off x="468360" y="1430280"/>
            <a:ext cx="8229600" cy="6224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3. RP – Povezovanje naravnih in kulturnih potencial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Grafikon 3" descr=""/>
          <p:cNvPicPr/>
          <p:nvPr/>
        </p:nvPicPr>
        <p:blipFill>
          <a:blip r:embed="rId1"/>
          <a:stretch/>
        </p:blipFill>
        <p:spPr>
          <a:xfrm>
            <a:off x="704880" y="2166840"/>
            <a:ext cx="74660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ravokotnik 1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dosežki pri izvajanju 3. razvojne prior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7"/>
          <p:cNvSpPr/>
          <p:nvPr/>
        </p:nvSpPr>
        <p:spPr>
          <a:xfrm>
            <a:off x="468360" y="2075040"/>
            <a:ext cx="8229600" cy="3454200"/>
          </a:xfrm>
          <a:prstGeom prst="roundRect">
            <a:avLst>
              <a:gd name="adj" fmla="val 933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Že doseženi kazalniki:  število podprtih projektov s področja turizma vključujoč v MSP; prenočitve turistov; število obiskovalcev v obnovljenih objektih kulturne dedišč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Podprtih preko 160 projektov  s področja turizma (infrastruktura in promoci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Podprtih 29 projektov kulturne infrastruk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Podprtih 12 projektov športno-rekreacijske infrastruk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ravokotnik 1"/>
          <p:cNvSpPr/>
          <p:nvPr/>
        </p:nvSpPr>
        <p:spPr>
          <a:xfrm>
            <a:off x="468360" y="1430280"/>
            <a:ext cx="8229600" cy="6224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4. RP – Razvoj reg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Grafikon 3" descr=""/>
          <p:cNvPicPr/>
          <p:nvPr/>
        </p:nvPicPr>
        <p:blipFill>
          <a:blip r:embed="rId1"/>
          <a:stretch/>
        </p:blipFill>
        <p:spPr>
          <a:xfrm>
            <a:off x="704880" y="2166840"/>
            <a:ext cx="74660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ravokotnik 1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dosežki pri izvajanju 4. razvojne prior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7"/>
          <p:cNvSpPr/>
          <p:nvPr/>
        </p:nvSpPr>
        <p:spPr>
          <a:xfrm>
            <a:off x="468360" y="2075040"/>
            <a:ext cx="8229600" cy="3095280"/>
          </a:xfrm>
          <a:prstGeom prst="roundRect">
            <a:avLst>
              <a:gd name="adj" fmla="val 933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Objava 7. javnega poziva za predložitev vlo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Podprtih že skoraj 1000 projektov s področja razvoja reg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Že doseženi kazalnik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Kot rezultat sofinanciranja je priklopljenih že 95.000 prebivalcev na kanalizacijski sistem v aglomeracijah manjših od 2000 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Skoraj 145.000 prebivalcev s kvalitetnejšim vodovodnim sistem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ravokotnik 1"/>
          <p:cNvSpPr/>
          <p:nvPr/>
        </p:nvSpPr>
        <p:spPr>
          <a:xfrm>
            <a:off x="468360" y="1120680"/>
            <a:ext cx="8229600" cy="6224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5. RP – Tehnična pomo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ontent Placeholder 2"/>
          <p:cNvSpPr/>
          <p:nvPr/>
        </p:nvSpPr>
        <p:spPr>
          <a:xfrm>
            <a:off x="482760" y="1928880"/>
            <a:ext cx="8215200" cy="50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Obveščanje javnost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spletna stran www.eu-skladi.si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Socialno omrežje Facebook:  www.facebook.com/EUskladi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Dogodki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Javne razprave o finančni perspektivi 2014-2020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Organizacija srečanja Višegrajske skupin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Organizacija IQ konferenc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Veliki informativni dogodek »Razvojni potencial v Zasavski regiji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E-kohezijski kotiče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Študije in vrednotenj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Vrednotenje 4. razvojne prioritete Operativnega programa krepitve regionalnih razvojnih potencialov za obdobje 2007-2013 - Razvoj regi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34ea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Upravljanje in izvajanje program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financiranje zaposlitev iz sredstev tehnične pomoči pri upravičencih, vključenih v izvajanje OP RR (SVRK, MGRT, MIZŠ, MK, MZIP, MZ, SPS, SPIRIT, MIR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usposabljanja, delavnice za delo na področju evropske kohezijske politike in delovna srečanja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nakup administrativne in računalniške opreme, najem in vzdrževanje prostorov ter telekomunikacijske opreme za delo zaposlenih na področju kohezijske politik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razvoj in nadgradnja informacijskega sistema za spremljanje in vrednotenje – ISAR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332000" y="2144880"/>
          <a:ext cx="6192720" cy="3528720"/>
        </p:xfrm>
        <a:graphic>
          <a:graphicData uri="http://schemas.openxmlformats.org/drawingml/2006/table">
            <a:tbl>
              <a:tblPr/>
              <a:tblGrid>
                <a:gridCol w="784080"/>
                <a:gridCol w="679680"/>
                <a:gridCol w="342720"/>
                <a:gridCol w="752400"/>
                <a:gridCol w="750960"/>
                <a:gridCol w="450720"/>
                <a:gridCol w="525600"/>
                <a:gridCol w="525600"/>
                <a:gridCol w="344520"/>
                <a:gridCol w="345960"/>
                <a:gridCol w="344520"/>
                <a:gridCol w="345960"/>
              </a:tblGrid>
              <a:tr h="396720">
                <a:tc rowSpan="2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ziv kazalnik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rsta kazalnik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e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zhodiščna vrednos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črtovana vrednos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gridSpan="7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sežena vrednos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0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TEVILO IZVEDENIH DOGODKO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ISKI SPLETNE STRAN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ČINE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2.6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8.3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TEVILO IZVEDENIH ŠTUDIJ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TEVILO IZVEDENIH VREDNOTENJ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VE ZAPOSLITV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TEVILO SEJ NADZORNEGA ODBO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ZULTA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Pravokotnik 2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dosežki pri izvajanju 5. razvojne prior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971640" y="2533680"/>
            <a:ext cx="61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34ea2"/>
                </a:solidFill>
                <a:latin typeface="Arial"/>
                <a:ea typeface="Arial"/>
              </a:rPr>
              <a:t>2. Predstavitev izvajanja OPR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34ea2"/>
                </a:solidFill>
                <a:latin typeface="Arial"/>
                <a:ea typeface="Arial"/>
              </a:rPr>
              <a:t>v letu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68360" y="1928880"/>
          <a:ext cx="8064360" cy="4003560"/>
        </p:xfrm>
        <a:graphic>
          <a:graphicData uri="http://schemas.openxmlformats.org/drawingml/2006/table">
            <a:tbl>
              <a:tblPr/>
              <a:tblGrid>
                <a:gridCol w="2556000"/>
                <a:gridCol w="1547640"/>
                <a:gridCol w="1297080"/>
                <a:gridCol w="1295280"/>
                <a:gridCol w="136836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12.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o EU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pravic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3.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o EU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pravic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vice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ane pogod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7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plačila iz proraču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redovani ZZ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ificirani ZZ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ravokotnik 1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poudarki pri izvajanju OPRR v letu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7"/>
          <p:cNvSpPr/>
          <p:nvPr/>
        </p:nvSpPr>
        <p:spPr>
          <a:xfrm>
            <a:off x="468360" y="2075040"/>
            <a:ext cx="8229600" cy="4462200"/>
          </a:xfrm>
          <a:prstGeom prst="roundRect">
            <a:avLst>
              <a:gd name="adj" fmla="val 933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Dodeljevanje dodatnih pravic porabe (7,8 mio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Objava 8. javnega poziva s področja Razvoja reg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Napredek pri izvedbi pomembnejših projekt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Novogradnja FKKT &amp;F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Nordijski center Pla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Napredek pri izvajanju instrumentov finančnega inženiri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Izvedena dodatna investicija tveganega kapit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Dodatno polnjenje programa na podlagi spremembe OP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Začetek gradnje v okviru projektov Urgentnih centr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rc_mi" descr="http://www.pomurec.com/data/galerija/8d93994edb3a19b686280e7cb365bacc7dca957d/21310494069Celozaslonski%20zajem%2012.7.2011%20195748.jpg"/>
          <p:cNvPicPr/>
          <p:nvPr/>
        </p:nvPicPr>
        <p:blipFill>
          <a:blip r:embed="rId1"/>
          <a:srcRect l="0" t="9131" r="3255" b="9567"/>
          <a:stretch/>
        </p:blipFill>
        <p:spPr>
          <a:xfrm>
            <a:off x="6012000" y="2725560"/>
            <a:ext cx="2395440" cy="15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971640" y="2492640"/>
            <a:ext cx="7200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34ea2"/>
                </a:solidFill>
                <a:latin typeface="Arial"/>
                <a:ea typeface="Arial"/>
              </a:rPr>
              <a:t>1. Predstavitev Letnega poročila o izvajanju OPRR v letu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68360" y="1046160"/>
            <a:ext cx="82296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  <a:ea typeface="Arial"/>
              </a:rPr>
              <a:t>Ključni dogodki v letu 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042920" y="1916280"/>
            <a:ext cx="6985080" cy="40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34ea2"/>
                </a:solidFill>
                <a:latin typeface="Arial"/>
              </a:rPr>
              <a:t>Organiziran veliki dogodek  „Razvojni potencial v Zasavski regiji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34ea2"/>
                </a:solidFill>
                <a:latin typeface="Arial"/>
              </a:rPr>
              <a:t>Sprememba Operativnega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34ea2"/>
                </a:solidFill>
                <a:latin typeface="Arial"/>
              </a:rPr>
              <a:t>Vlada RS je sprejela odločitev o ustanovitvi Službe vlade RS za razvoj in evropsko kohezijsko politik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34ea2"/>
                </a:solidFill>
                <a:latin typeface="Arial"/>
              </a:rPr>
              <a:t>Potrjevanje instrumentov iz dodatnih pravic porabe (36,8 mio EU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72bfc5"/>
                </a:solidFill>
                <a:latin typeface="Arial"/>
              </a:rPr>
              <a:t>     </a:t>
            </a:r>
            <a:r>
              <a:rPr b="0" lang="sl-SI" sz="1600" spc="-1" strike="noStrike">
                <a:solidFill>
                  <a:srgbClr val="72bfc5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468360" y="1046160"/>
            <a:ext cx="82296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  <a:ea typeface="Arial"/>
              </a:rPr>
              <a:t>Finančno izvajanje OP RR</a:t>
            </a:r>
            <a:r>
              <a:rPr b="1" lang="sl-SI" sz="4000" spc="-1" strike="noStrike">
                <a:solidFill>
                  <a:srgbClr val="034ea2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Grafikon 4" descr=""/>
          <p:cNvPicPr/>
          <p:nvPr/>
        </p:nvPicPr>
        <p:blipFill>
          <a:blip r:embed="rId1"/>
          <a:stretch/>
        </p:blipFill>
        <p:spPr>
          <a:xfrm>
            <a:off x="468360" y="1600200"/>
            <a:ext cx="82296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68360" y="1928880"/>
          <a:ext cx="8136000" cy="4003560"/>
        </p:xfrm>
        <a:graphic>
          <a:graphicData uri="http://schemas.openxmlformats.org/drawingml/2006/table">
            <a:tbl>
              <a:tblPr/>
              <a:tblGrid>
                <a:gridCol w="2577960"/>
                <a:gridCol w="1562040"/>
                <a:gridCol w="1308240"/>
                <a:gridCol w="1392120"/>
                <a:gridCol w="129564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12.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o EU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pravic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.12.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o EU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pravic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8c93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vice pora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isane pogod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7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plačila iz proraču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redovani ZZ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tificirani ZZ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ravokotnik 1"/>
          <p:cNvSpPr/>
          <p:nvPr/>
        </p:nvSpPr>
        <p:spPr>
          <a:xfrm>
            <a:off x="468360" y="1430280"/>
            <a:ext cx="8229600" cy="6224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1. RP – Konkurenčnost podjetij in raziskovalna odlič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Grafikon 4" descr=""/>
          <p:cNvPicPr/>
          <p:nvPr/>
        </p:nvPicPr>
        <p:blipFill>
          <a:blip r:embed="rId1"/>
          <a:stretch/>
        </p:blipFill>
        <p:spPr>
          <a:xfrm>
            <a:off x="704880" y="2166840"/>
            <a:ext cx="74660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ravokotnik 1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dosežki pri izvajanju 1. razvojne prior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7"/>
          <p:cNvSpPr/>
          <p:nvPr/>
        </p:nvSpPr>
        <p:spPr>
          <a:xfrm>
            <a:off x="468360" y="2075040"/>
            <a:ext cx="8229600" cy="4652640"/>
          </a:xfrm>
          <a:prstGeom prst="roundRect">
            <a:avLst>
              <a:gd name="adj" fmla="val 933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S subvencijami neposredno podprtih preko 1300 podjet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 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sofinanciranje R&amp;R dejavnosti in investicije v R&amp;R opr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sofinanciranje nakupa tehnološke opr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spodbujena dodatna vlaganja v razv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Centri odličnosti in kompetenčni centri uspešno zaključeni v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 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okrepitev povezovanja med akademsko sfero in gospodarstv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umeščanje v mednarodni pro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kazalniki so večinoma presež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Instrumenti finančnega inženiri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z dolžniškimi viri podprtih preko 1500 podjetij in ustvarjenega prek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 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260 mio EUR garancijskega potencia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-</a:t>
            </a: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 z lastniškimi viri podprtih 17 podjet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ravokotnik 1"/>
          <p:cNvSpPr/>
          <p:nvPr/>
        </p:nvSpPr>
        <p:spPr>
          <a:xfrm>
            <a:off x="468360" y="1430280"/>
            <a:ext cx="8229600" cy="6224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2. RP – Gospodarsko – razvojna infrastruk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Grafikon 3" descr=""/>
          <p:cNvPicPr/>
          <p:nvPr/>
        </p:nvPicPr>
        <p:blipFill>
          <a:blip r:embed="rId1"/>
          <a:stretch/>
        </p:blipFill>
        <p:spPr>
          <a:xfrm>
            <a:off x="704880" y="2166840"/>
            <a:ext cx="74660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ravokotnik 1"/>
          <p:cNvSpPr/>
          <p:nvPr/>
        </p:nvSpPr>
        <p:spPr>
          <a:xfrm>
            <a:off x="468360" y="1266840"/>
            <a:ext cx="8229600" cy="62244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  <a:ea typeface="Arial"/>
              </a:rPr>
              <a:t>Ključni dosežki pri izvajanju 2. razvojne priorit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7"/>
          <p:cNvSpPr/>
          <p:nvPr/>
        </p:nvSpPr>
        <p:spPr>
          <a:xfrm>
            <a:off x="468360" y="2075040"/>
            <a:ext cx="8229600" cy="3958920"/>
          </a:xfrm>
          <a:prstGeom prst="roundRect">
            <a:avLst>
              <a:gd name="adj" fmla="val 9338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Vsi kazalniki razen tistih s področje izgradnje izobraževalno-raziskovalne infrastrukture in urgentnih centrov že dosež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število delujočih subjektov podpornega okol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število projektov e-vsebin e-stori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GOŠO – preko 12.000 novih širokopasovnih priključkov (več kot 73.000 prebivalcev z možnostjo dostopa do interne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Napredek pri izvajanju velikega projek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Nadaljevanje GOI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34e8e"/>
                </a:solidFill>
                <a:latin typeface="Calibri"/>
              </a:rPr>
              <a:t>- Izvedba JN za dobavo opr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34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Potrjenih 7 projektov urgentnih centr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r>
              <a:rPr b="1" lang="sl-SI" sz="1800" spc="-1" strike="noStrike">
                <a:solidFill>
                  <a:srgbClr val="034e8e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OTO-UPR01</cp:lastModifiedBy>
  <cp:lastPrinted>2014-05-20T07:55:45Z</cp:lastPrinted>
  <dcterms:modified xsi:type="dcterms:W3CDTF">2014-05-21T08:54:47Z</dcterms:modified>
  <cp:revision>70</cp:revision>
  <dc:subject/>
  <dc:title>Naslov</dc:title>
</cp:coreProperties>
</file>